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9B9-B324-4EDD-82FC-8AB0F971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7F40-38EF-4D2A-9BCD-2B4903AF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30DF-E316-47D2-8322-3381DE87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6BB-AE1A-44D5-8F46-905F02F3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776-C9C0-422E-9BA8-C77B03F2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A3A2-46C4-4EB6-882B-91C02BA1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7A3F-1E5E-47D1-9459-2E11BD35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4316-1BAF-4391-85BD-CDB92B05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85B3-70C0-44B6-BFC3-EC87076D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679-F639-4491-9421-F85FB879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9829-26E0-4985-A5B8-6A6AAA63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0803-35FD-4C2B-9626-B9D2AEAE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7B46-F44E-46A9-AEB1-0F5693963D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79280" y="1341360"/>
            <a:ext cx="871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Результаты</a:t>
            </a:r>
            <a:r>
              <a:rPr b="1" lang="en-US" sz="48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пробного</a:t>
            </a:r>
            <a:br>
              <a:rPr sz="4800"/>
            </a:b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 экзамена по математике                  в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 </a:t>
            </a: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классе, проведенн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0 марта 20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(базовый уровень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-230760" y="115920"/>
            <a:ext cx="99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Результаты выполнения заданий по ОУ  (в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8000" y="981000"/>
          <a:ext cx="8928000" cy="5616720"/>
        </p:xfrm>
        <a:graphic>
          <a:graphicData uri="http://schemas.openxmlformats.org/drawingml/2006/table">
            <a:tbl>
              <a:tblPr/>
              <a:tblGrid>
                <a:gridCol w="1917720"/>
                <a:gridCol w="555480"/>
                <a:gridCol w="565200"/>
                <a:gridCol w="612720"/>
                <a:gridCol w="554040"/>
                <a:gridCol w="555840"/>
                <a:gridCol w="618840"/>
                <a:gridCol w="749520"/>
                <a:gridCol w="749160"/>
                <a:gridCol w="747720"/>
                <a:gridCol w="638280"/>
                <a:gridCol w="66348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хнеуслонская 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хнеуслонская гимн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юш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ережно-Моркв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ланг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тябрь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у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а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ьшемем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Rectangle 969"/>
          <p:cNvSpPr/>
          <p:nvPr/>
        </p:nvSpPr>
        <p:spPr>
          <a:xfrm>
            <a:off x="33400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76"/>
          <p:cNvSpPr/>
          <p:nvPr/>
        </p:nvSpPr>
        <p:spPr>
          <a:xfrm>
            <a:off x="2987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539640" y="620640"/>
            <a:ext cx="820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В пробном экзамен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по математике приня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участие 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tt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 человек из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 шко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Верхнеуслонск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муниципального райо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11280" y="1773360"/>
          <a:ext cx="8229600" cy="4897440"/>
        </p:xfrm>
        <a:graphic>
          <a:graphicData uri="http://schemas.openxmlformats.org/drawingml/2006/table">
            <a:tbl>
              <a:tblPr/>
              <a:tblGrid>
                <a:gridCol w="4319640"/>
                <a:gridCol w="390996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вичный бал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стовый бал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т 0 до 6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 до 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от 12 до 1</a:t>
                      </a: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4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от 17 до 21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5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57"/>
          <p:cNvSpPr/>
          <p:nvPr/>
        </p:nvSpPr>
        <p:spPr>
          <a:xfrm>
            <a:off x="108000" y="87480"/>
            <a:ext cx="849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Соответств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первичных и тестовых бал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324000" y="260280"/>
            <a:ext cx="84582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ичество баллов, набранных учащимися 11 класса, распределилось следующим образ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4000" y="1484280"/>
          <a:ext cx="8424720" cy="3651120"/>
        </p:xfrm>
        <a:graphic>
          <a:graphicData uri="http://schemas.openxmlformats.org/drawingml/2006/table">
            <a:tbl>
              <a:tblPr/>
              <a:tblGrid>
                <a:gridCol w="4440240"/>
                <a:gridCol w="3984480"/>
              </a:tblGrid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т 0 до 6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учеников (24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 до 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чеников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)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от 12 до 1</a:t>
                      </a: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r>
                        <a:rPr b="1" lang="tt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 учеников</a:t>
                      </a: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4</a:t>
                      </a:r>
                      <a:r>
                        <a:rPr b="1" lang="tt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от 17 до 21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 ученик (4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Rectangle 35"/>
          <p:cNvSpPr/>
          <p:nvPr/>
        </p:nvSpPr>
        <p:spPr>
          <a:xfrm>
            <a:off x="468360" y="52992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району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спеваем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оставила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76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аче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знаний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8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04920" y="0"/>
            <a:ext cx="8839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Результаты экзамена по математике по общеобразовательным учрежде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2484360" y="6165720"/>
            <a:ext cx="51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редний первичный балл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району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10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95280" y="1125360"/>
          <a:ext cx="8569440" cy="4822920"/>
        </p:xfrm>
        <a:graphic>
          <a:graphicData uri="http://schemas.openxmlformats.org/drawingml/2006/table">
            <a:tbl>
              <a:tblPr/>
              <a:tblGrid>
                <a:gridCol w="638280"/>
                <a:gridCol w="5091120"/>
                <a:gridCol w="2840040"/>
              </a:tblGrid>
              <a:tr h="64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образовательного учре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ервичны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</a:t>
                      </a: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,</a:t>
                      </a:r>
                      <a:r>
                        <a:rPr b="1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гимназ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</a:t>
                      </a: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Набережно-Моркваш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Шеланг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Октябрь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Макул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оргуз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урал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Большемем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720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0" y="115920"/>
            <a:ext cx="91440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Количество   тестовых   баллов,                                                     набранных   учащимися  в  разрезе  ш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981000"/>
          <a:ext cx="8569080" cy="5532480"/>
        </p:xfrm>
        <a:graphic>
          <a:graphicData uri="http://schemas.openxmlformats.org/drawingml/2006/table">
            <a:tbl>
              <a:tblPr/>
              <a:tblGrid>
                <a:gridCol w="4546440"/>
                <a:gridCol w="1262160"/>
                <a:gridCol w="689040"/>
                <a:gridCol w="690480"/>
                <a:gridCol w="692280"/>
                <a:gridCol w="688680"/>
              </a:tblGrid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школ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гимназ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Матюш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Набережно-Моркваш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Шеланг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Октябрь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Макул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оргуз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урал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Большемем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50920" y="1484280"/>
          <a:ext cx="8424720" cy="4748400"/>
        </p:xfrm>
        <a:graphic>
          <a:graphicData uri="http://schemas.openxmlformats.org/drawingml/2006/table">
            <a:tbl>
              <a:tblPr/>
              <a:tblGrid>
                <a:gridCol w="3671640"/>
                <a:gridCol w="1508400"/>
                <a:gridCol w="1755720"/>
                <a:gridCol w="1488960"/>
              </a:tblGrid>
              <a:tr h="922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преодол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ля 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дол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школ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хнеуслонская гимназ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юшин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ережно-Моркваш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лангов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тябрь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улов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гузин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алов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ьшемемин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" name="Text Box 84"/>
          <p:cNvSpPr/>
          <p:nvPr/>
        </p:nvSpPr>
        <p:spPr>
          <a:xfrm>
            <a:off x="179280" y="404640"/>
            <a:ext cx="864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Monotype Corsiva"/>
              </a:rPr>
              <a:t>Статистика в разрезе общеобразовательных </a:t>
            </a:r>
            <a:r>
              <a:rPr b="1" lang="tt-RU" sz="3000" spc="-1" strike="noStrike">
                <a:solidFill>
                  <a:srgbClr val="0000ff"/>
                </a:solidFill>
                <a:latin typeface="Monotype Corsiva"/>
              </a:rPr>
              <a:t>учре</a:t>
            </a:r>
            <a:r>
              <a:rPr b="1" lang="ru-RU" sz="3000" spc="-1" strike="noStrike">
                <a:solidFill>
                  <a:srgbClr val="0000ff"/>
                </a:solidFill>
                <a:latin typeface="Monotype Corsiva"/>
              </a:rPr>
              <a:t>ж</a:t>
            </a:r>
            <a:r>
              <a:rPr b="1" lang="tt-RU" sz="3000" spc="-1" strike="noStrike">
                <a:solidFill>
                  <a:srgbClr val="0000ff"/>
                </a:solidFill>
                <a:latin typeface="Monotype Corsiva"/>
              </a:rPr>
              <a:t>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-210960" y="115920"/>
            <a:ext cx="97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Результаты выполнения заданий по рай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Диаграмма 3" descr=""/>
          <p:cNvPicPr/>
          <p:nvPr/>
        </p:nvPicPr>
        <p:blipFill>
          <a:blip r:embed="rId1"/>
          <a:stretch/>
        </p:blipFill>
        <p:spPr>
          <a:xfrm>
            <a:off x="609480" y="981000"/>
            <a:ext cx="82105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79280" y="765000"/>
          <a:ext cx="8640720" cy="5472360"/>
        </p:xfrm>
        <a:graphic>
          <a:graphicData uri="http://schemas.openxmlformats.org/drawingml/2006/table">
            <a:tbl>
              <a:tblPr/>
              <a:tblGrid>
                <a:gridCol w="2509920"/>
                <a:gridCol w="592200"/>
                <a:gridCol w="677880"/>
                <a:gridCol w="593640"/>
                <a:gridCol w="592200"/>
                <a:gridCol w="593640"/>
                <a:gridCol w="592200"/>
                <a:gridCol w="593640"/>
                <a:gridCol w="593640"/>
                <a:gridCol w="592200"/>
                <a:gridCol w="709560"/>
              </a:tblGrid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хнеуслонская 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хнеуслонская гимн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юш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ережно-Моркв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ланг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тябрь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у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а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ьшемем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9" name="Rectangle 263"/>
          <p:cNvSpPr/>
          <p:nvPr/>
        </p:nvSpPr>
        <p:spPr>
          <a:xfrm>
            <a:off x="-151200" y="115920"/>
            <a:ext cx="98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Результаты выполнения заданий по ОУ (в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3T19:00:41Z</dcterms:created>
  <dc:creator>Admin</dc:creator>
  <dc:description/>
  <dc:language>en-US</dc:language>
  <cp:lastModifiedBy>Нина Хайруллина</cp:lastModifiedBy>
  <dcterms:modified xsi:type="dcterms:W3CDTF">2022-04-19T16:48:08Z</dcterms:modified>
  <cp:revision>94</cp:revision>
  <dc:subject/>
  <dc:title>    Результаты  пробного экзамена по математике в 11классе, проведенного 29 декабря 20145года</dc:title>
</cp:coreProperties>
</file>